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0D3-86CB-456D-AF46-E7AD28B3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7B0-79E6-46DA-874F-2FE27A4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109-EA8A-4A6A-8225-41F2F62F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739-0833-49C4-8A05-A944A55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3D6-B0AD-4FAB-94B4-6F86C33B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CB9B-E535-4E3C-8702-85D14D9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654-632F-4BC8-9C67-FBC8FC6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C29-9E19-45F6-B815-6003C817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DA8-FE9F-409A-B9E3-9C8D359D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4C8D-FCC7-4AB9-9501-EC09F4E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4CD9-FB25-42EE-98A5-D53F003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08E-D899-4FDA-8A13-52A0A100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A38B-18A8-4F2C-B93A-4273DC1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8B5-0C1F-45F1-B27D-528A751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9C3-FF0D-494D-846E-C5F79156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0B13-A3C6-432A-A2FB-10253FAD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726-886C-4283-9F8C-979B37EF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7214-75AF-42B0-98D7-3EDCD725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8B99-94EA-4838-B08E-EB6278A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B756-6C42-41F8-80C3-CCF512C1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51A5-84DB-42B0-8DB0-639B1E9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448A-BC47-4165-AC45-3FC6322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670-8A72-4D58-B9F1-823FB159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2C77-6EE5-4004-A1DE-9B93E868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BD24-8F01-4DE6-94D5-1D69249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9AEC-0FF6-4AB1-805E-E54F4C1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4296-5969-4A5A-9FC0-DA40200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BE88-3147-4B3A-A4B5-BBCC8C3D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4839-16E3-4AA0-BCD7-3085A368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AC94-1EFF-4620-B601-42DC9DB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42C6-0E3B-44D0-B797-0564794B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85C9-1128-4C5E-A232-CB4E7D3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B740-5751-4FEA-9596-5AE9C90E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93F-98C1-4B35-AA10-59F601E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1DC5-A98F-40CF-A452-878AA9C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E8B0-AB45-4561-B2F0-2D44F75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5E6B-40FD-4FFB-8C88-0856DCD3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FF22-7FC8-489B-BA1B-94C4EC9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273D-D98B-4DC9-8B6D-3807133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6C6D-1EDF-415C-9AC0-C04B596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78D8-E0AF-40F7-B1CE-2C918BEF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F6F8-2095-463A-B6BF-0450AA7F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E6BC-8AC5-4A45-BC68-5D70496B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258-F4C5-40E7-A019-E3E56C3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EF2-C2E6-4973-A88F-61861E4C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60C-2645-4431-AE73-34C3FF1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E2E-84B2-4647-92BB-09CC682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31D-80E4-440B-B4EF-1C94608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D7D-2B22-4773-885C-87C5A9C47F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E763-1862-42F1-9536-FBF2F8E7DF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F72-E539-4DDB-9206-06F1B97C694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297-BAE3-45B5-A145-CA92561781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ztest.ru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pm298.ru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559720" cy="264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7120" y="299988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5a839"/>
                </a:solidFill>
                <a:uFillTx/>
                <a:latin typeface="Constantia"/>
              </a:rPr>
              <a:t>Творческое название проекта:</a:t>
            </a:r>
            <a:r>
              <a:rPr b="1" lang="ru-RU" sz="4300" spc="-1" strike="noStrike">
                <a:solidFill>
                  <a:srgbClr val="55a839"/>
                </a:solidFill>
                <a:latin typeface="Constant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Характер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функ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429160" y="47862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уфриев Денис, 142 г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3357720" y="6072120"/>
            <a:ext cx="364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3714840" y="6215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ыктывкар, 2010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1214280" y="2142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Аннотац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571680" y="107172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тематическое моделирование явлений и законов природы приводит к возникновению понятия функции. Часто говорят, что функция есть переменная величина, зависящая от другой переменной величины (аргумент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возникает вопрос,  всегда ли существует эта переменная величина,  какие значения может принимать аргумент, как ведёт себя функция. В жизни возникают моменты, когда требуется решить  какую-нибудь проблему. Мы прибегаем к математике, а  ответ может не совпадать с результатом или даже быть ему противоположным, поскольку  не был учтён тот факт, что в жизни всё не так уж просто, как на бумаг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88400" cy="194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ребуется учесть множество факторов, приблизить математику к жизни и использовать  её правила в быту, именно для этого существует область определения и область значений, такие свойства как чётность, нечётность, периодичность и монотонность. Благодаря им мы можем знать, что некоторые функции не хотят принимать значения, так как это лишает их смысл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аже простейшие правила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нуль делить  нельзя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дуль числа всегда неотрицателен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: может очень сильно повлиять на функция и поменять её в корн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1428840" y="642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Основополагающий вопро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357200" y="1143000"/>
            <a:ext cx="7143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857160" y="13572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ёт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ебя функц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79280" y="249228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чего нужны промежутки и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колотые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точ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то такое период, и для чего он нужен периодической функции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1547640" y="6206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Вопросы учебной тем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08000" y="1341360"/>
            <a:ext cx="88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чего нужны промежутки и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колотые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точк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значения может принимать аргумент функц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 такое периодичность функц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о значит: функция монотонна, чётная или нечётн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чего зависит функция(зависимая переменная)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39640" y="511020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87026"/>
                </a:solidFill>
                <a:uFillTx/>
                <a:latin typeface="Constantia"/>
              </a:rPr>
              <a:t>Учебный предмет:</a:t>
            </a:r>
            <a:r>
              <a:rPr b="0" lang="ru-RU" sz="2800" spc="-1" strike="noStrike">
                <a:solidFill>
                  <a:srgbClr val="387026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87026"/>
                </a:solidFill>
                <a:uFillTx/>
                <a:latin typeface="Constantia"/>
              </a:rPr>
              <a:t>Участники:</a:t>
            </a:r>
            <a:r>
              <a:rPr b="0" lang="ru-RU" sz="28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8-е класс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571680" y="3571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Дидактические цели проек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642960" y="135720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Научить ориентироваться в «море»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Сформировать навыки самостоятельной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ahoma"/>
              </a:rPr>
              <a:t>Сформировать навыки командной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42960" y="28576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5a839"/>
                </a:solidFill>
                <a:uFillTx/>
                <a:latin typeface="Constantia"/>
              </a:rPr>
              <a:t>Методические задачи проек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00040" y="385776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делить и сформулировать понятие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ункция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формулировать понятия и выработать правила и навыки нахождения области определения и области значений функ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вить понимание и выработать понятия: монотонность, периодичность, чётность и нечётность функ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Научить пользоваться программой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ahoma"/>
              </a:rPr>
              <a:t>Power-Poin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ahoma"/>
              </a:rPr>
              <a:t>Publisher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1357200" y="3571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a839"/>
                </a:solidFill>
                <a:uFillTx/>
                <a:latin typeface="Constantia"/>
              </a:rPr>
              <a:t>Этапы и сроки проведения проек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85880" y="1357200"/>
            <a:ext cx="73580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Подготовительный этап: (2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зговой штур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постановка проблемы, выдвижение первоначальных гипотез, формирование тем исследований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пределение учеников по группам, составление индивидуального плана работ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суждение возможных источников информации и защиты авторских пра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Этап обучения(3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ультации по выполнению зад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рректировка планов, гипотез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движение  предварительных результа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Заключительный этап: (2 уро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формление результатов в виде презентации и букле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а самостоятельных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суждение результатов проек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флексия участников проек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1143000" y="57168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a839"/>
                </a:solidFill>
                <a:latin typeface="Constantia"/>
              </a:rPr>
              <a:t>Результаты представления исследов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357200" y="1500120"/>
            <a:ext cx="657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– результаты исслед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уклет – интересные и занимательные фак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ические материал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исок используемой литературы и адреса интернет-сай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857160" y="4287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a839"/>
                </a:solidFill>
                <a:uFillTx/>
                <a:latin typeface="Constantia"/>
              </a:rPr>
              <a:t>Рекомендуемая литерату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57160" y="1285920"/>
            <a:ext cx="707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гебра 8 класс. Макарычев Ю. 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uztest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pm298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0:22:22Z</dcterms:created>
  <dc:creator>NITRO</dc:creator>
  <dc:description/>
  <dc:language>en-US</dc:language>
  <cp:lastModifiedBy>Admin</cp:lastModifiedBy>
  <dcterms:modified xsi:type="dcterms:W3CDTF">2010-05-30T12:05:27Z</dcterms:modified>
  <cp:revision>35</cp:revision>
  <dc:subject/>
  <dc:title>Слайд 1</dc:title>
</cp:coreProperties>
</file>